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00D-62CF-49C6-B385-EB4E3DE1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592-C5D8-4A96-8F2B-B33D941B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F14-A6BB-449E-AA5B-A3E702E0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AD3-31B3-49B0-9FBD-C5E3ADEB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075B-41BE-484C-A69F-391B66B1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83CA-6B71-47B0-93DD-6AE4492A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0F50-D97F-4904-B0F0-5274CB34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EDDB-E243-4940-863A-39D79AE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3E7-EA9F-4BC8-95EB-5A9B08A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7EB5-75F6-4ACC-844A-08DCD606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B388-1835-40BA-BF65-D017496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B49-6899-4A4C-995B-507BE1D0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36D1-61F6-4C0F-B46E-D0D13FC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116E-8801-486B-82B7-B0AE688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33E-8957-4E31-BB5A-9EFEB42A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715C-1D5E-46D5-AAC0-CD71DF73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FB05-2151-4232-B45B-6140ECC1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190-5197-4EED-B755-88209020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6F2-B49E-4F59-878C-BD614438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2B8-7112-4746-9C21-7B04CE1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80D-DC60-4CA0-B87E-4D0FA4EF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BD4-6DF9-45DD-AB01-785644A5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CAD-7BB2-479F-A69D-EFE03291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77B-734A-4DA6-85EC-664E7DD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9AC1-CD14-4079-8AA7-5F28EB4C32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93EF-A290-45CA-893F-54E1905189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he drysdal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Profi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name: Alexander  mahe owens drysd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ge: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OB:19 november 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orn in: melbor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ight:199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ight:100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692280"/>
            <a:ext cx="40719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Family and histo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ere they grew up: Melbourne, 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Sporting pa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ast Olympics: 2008 Beijing, 2004 Ath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wards won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w old were they when they started: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ve they had to overcome any problems to get where they are now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as sick at the 2008 Beijing Olympics, but he got back in his boat and di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Being the best they can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Training, food, lifestyle…)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had to train ages every day except Sunday, he has a day off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althy and fit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ats vegetables and fruit and meat for str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y this athle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xplain here why you have chosen this athlete. What do you like about them? How have they inspired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’s n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is good at 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really pushes his hard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17:59Z</dcterms:modified>
  <cp:revision>6</cp:revision>
  <dc:subject/>
  <dc:title>Name of Athlete</dc:title>
</cp:coreProperties>
</file>